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BE3-0E98-4D5F-8FCD-572AD1DD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496-5CD0-4B50-9789-306756EA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231-1A51-455B-86A4-A09683FE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EC1-B979-41F9-A95C-311F5BF1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568-05B3-48E2-9A40-D20972C2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DB2-43F5-4168-AB68-CBF5FAA0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6CB-5446-4755-B252-489AD533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9DF-AEC4-49CE-8DEC-20A88B35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A36-9684-4C05-9118-14585D9A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FCE-2E64-40AC-8D4F-5FB14305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3CF-01FC-4284-BADB-A25A796C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79F-EC83-4CF3-ACDF-B48CF354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AB8C-3B99-4F91-B038-8A24BEEFA5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5840" y="2230560"/>
            <a:ext cx="850104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 о репродуктивном здрављ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661000"/>
            <a:ext cx="640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00040" y="378612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ни приступ примени естрогена код постменопаузалних ж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зревање јајне ћелије (оогенеза)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чиње током феталног живота, али се не завршава све до тренутка оплођења јајне ћел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ку феталног живота, путем митоза долази до пролиферације оогонија (завршава се на половини живота фетуса када се ооците заустављају у фази прве мејотичке деоб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ђењу број јајних ћелија износи 1-2 милиона, а на почетку пубертета у јајнику се налази око 100000 ооци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е ћелије могу бити стимулисане да се потпуно развију и ослободе током овулације или могу одумрети у процесу атрез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зревање јајне ћелије (оогенеза)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 унутар структура – фолику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имулисани фоликул садржи једну примарну јајну ћелију окружену једним слојем гранулоза ћелија, које су окружене тека ћелија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четку сваког месечног оваријалног циклуса неколико фоликула бива стимулисано – само један постаје доминантни фолику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ља развој све до овулац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зревање јајне ћелије (оогенеза)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оликулу који се развија, увећава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а ћелиј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ранулоза ћел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јајне ћелије се формира бистар желатинозни прстен екстрацелуларног матрикс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 пелуци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тни фоликул постаје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ов фолику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наглог и интезивног ослобађањ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рмона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лас) ооцит унутар Графовог фоликула завршава прву мејотичку деобу и поста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ооц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кањем Графовог фоликула у врем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ула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бацује се јајна ћелија у перитонеалну дупљу близу фимбрија јајово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нути фоликул колабира, гранулоза ћелије пролиферишу, под утицајем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ази до структуралних промена у току којих прснути фоликул постаје жуто тело (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us lute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енструални циклу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892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а активност хипоталамо-оваријалне осовин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 до овулације и истовременог развоја повољне средине унутар материце која може да подржи трудноћу (ако јајна ћелија буде оплођен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струални циклус и оваријални циклус се понављају отприлике сваких 28 да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дан менструалног крварења означава први дан менструалног циклу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догађаја унутар јајника, оваријални циклус се дели у три фа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ликулар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14 da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л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3-15 da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теинс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-28 da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Фоликуларна фаза (1-14 дан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 се током прве половине менструалног цикл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се претходни циклус ближи крају, жуто тело одумире, настаје нагли пад концетрациј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естерона, естрогена и инхибин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лаз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трација ФСХ у плазми расте (губитак негативне повратне спрег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утицајем ФСХ група примарних фоликула почиње да расте (процес почиње у последња 2-3 дана претходног циклус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оза ћелије под утицајем ФСХ луч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оге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 синтезу естрогена као супстрат се користе андрогени који се синтетишу у ћелијама тек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средине фоликуларне фазе наступа супресија лучења ФСХ (спречава се активирање више фоликул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љује с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тни фолику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ома осетљив на деловање ФСХ, који се даље развија и лучи естроген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 доминантни фоликули претрпе атрезиј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Фаза овулације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(13-15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56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ЛХ талас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апочиње овулацију која се коначно догоди око 12 сати након што ниво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L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у плазми достигне врхунац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Доминантни фоликул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сигнализира хипофизи да је сазрео (ослобађа велике количине естрогена, механизмом негативне повратне спреге делује на гонадотропне ћелије предњег режња хипофизе чинећи их остљивијим на деловање гонадотропин-ослобађајућег хормома (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GnR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хипоталамус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имарна ооцита завршава прву мејотичку деобу – постаје већ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секундарна ооцит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велики пораст концетрације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L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, зауставља се у фази друге мејотичке деобе (до оплодње остаје у тој фаз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вулац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прскање доминантног фоликула услед деловања: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L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прогестерона и локално ослобођених простагланди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слобођена јајна ћелија окружен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зоном пелуцидом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 гранулоза ћелија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Лутеинска фаза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(15-28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 се жуто тело 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имулише диференцијацију тека и гранулоза ћелија у тека-лутеинске и гранулоза-лутеинске ћелиј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секреторни продукт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естеро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акође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оге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лутеинске фазе високи нивои естрогена нису у стању да изазову поновни пораст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бог постојања високих нивоа прогестеро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не догоди трудноћа жуто тело пропа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ну трудноћу од суштинског значаја је да постоји континуирана секреција прогестерона којег лучи жуто тел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догоди имплантација ембриона, трофобластне ћелије плаценте, која је у фази развоја, луче хормон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и хорионски гонадотропи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налог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ржава функцију жутог тела све док плацента не преузме функције синтезе великих количина прогестерона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Хормонски систем код жене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560" y="1125360"/>
            <a:ext cx="8651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 хормонски систем, слично као код мушкарца, има три хијерархијски повезана ниво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јући хормон хипоталамуса – гонадотропин-рилизинг хормон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R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и хормони аденохипофизе: фоликулостимулирајући хормон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лутеинизирајући хормон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 јајника, естроген и прогестерон, које луче јајници стимулисани дејством два полна хормона аденохипофиз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Менопау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892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 “недовољне функције јајника”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ак менструације је универзална карактеристика менопауз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 нивоа естроген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саниц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пади врелине (валунз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личит степен атрофије вагиналне слузниц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мањење величине дој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теопороз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ит пад концетрације естрогена и прогестер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ком функције јајника губи се негативна повратна спрега на ГнРХ, тако да у серуму расту концетрациј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д жена у постменопаузи је посебно повишен услед недостатк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н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хормона којег је лучио јајник и који је, механизмом повратне спреге, селективно деловао на лучењ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ђење јајне ћелије и трудно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8920" y="1484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зоиди и јајна ћелија обично се успешно срећу у проширеном делу јајовода (ампул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ђење јајне ћелије се дешава унутар уског временског интервала, само неколико сати од овулациј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ђена јајна ћелија се задржава у јајоводу током наредна три да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јајоводу се оплођена јајна ћелија дели и настаје солидна маса од 12 или више ћелија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ул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ула се током наредна три дана развија у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оцит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слободно лебди у шупљини материц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имплантације бластоците у ендометријум материце долази 6-7 дана након овулациј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3"/>
          <p:cNvSpPr/>
          <p:nvPr/>
        </p:nvSpPr>
        <p:spPr>
          <a:xfrm>
            <a:off x="5572080" y="357120"/>
            <a:ext cx="2852640" cy="292896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Non scholae, sed vitae discim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Haurit aquam cribro qui discere vult sine lib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еплодно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гућност жене да затрудни након 12 месеци редовних полних односа у којима нису коришћена заштитна сред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7% без утврђеног узро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5% фактори код мушкарц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8% фактори код же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тадијуми фертилизациј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1628280"/>
            <a:ext cx="843588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зоиди се везују за зону пелуцид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озомална реакција (акрозом – велика секреторна везикул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зоид пробија зону пелуцид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пање мембрана јајне ћелије и сперматозои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тикална реакција јајне ћелије изазвана уласком једра сперматозоида (“каљење зоне пелуциде” – спречавање полиспермиј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 пронуклеу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шки пронуклеу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гамија: пронуклеуси се спајај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Имплантациј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јена јана ћелија ћелија се развија током 6-7 дана пре него што се импланти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шупљини материце, пре имплантације, секрет ендометријалних жлезда исхрањује ембрио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 унутар шупљине материце се постепено апсорбује преко прстолистих наставака ендометријум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оп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адијуму бластоцисте, ембрион који се развија има сферни облик; то је шупљина која је испуњена течношћу коју окружу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ј ћелија трофобла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Имплантациј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II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латација се одвија у три стадијум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зициј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варање лабаве везе између трофобласта и ендометријум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хезиј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нтеракција преко специфичних лиганд-рецептора када се на трофобластним ћелијама појаве микровили (убрзо се трофобласт диференцира у два слоја: унутрашњи - цитотрофобласт и спољашњи окренут ендометријуму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цициотрофоблас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азиј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дометријалне стром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цициотрофобласто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ембрион потпуно уроњен у ендометрију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синцициотрофобластне инвазије, цео ендометријум пролази кроз даље биохемијске и морфолошке промене, које чине процес децидуализациј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цидуална реакција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идуална реакција започиње на месту имплантације и шири се у концетричним круговима кроз цео ендометрију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стељица (плацента)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цу изграђују елементи пореклом од мајке и од фет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ца има две основне функциј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анспорт матер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ндокрина жлез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цициотрофобласт продире у дубље слојеве ендометријума и формир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ун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крвни судови мајке у ендометријуму буду еродирани, лакуне се испуњавају мајчином крвљу, спајају у један простор и формирају интервилозни простор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онске ресиц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у да расту из цитотрофобласта да би направиле контакт са лакунам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илозни простор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понаша попут џиновског капилара, у који улази свежа крв из мајчиних спиралних артерија, а која напушта постељицу путем вена постељиц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стељица (плацента)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560" y="1267920"/>
            <a:ext cx="8569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релим хорионским ресицама се налазе фетални крвни капилар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тервилозном простору се налази мноштво хорионских ресица које формирају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онску плоч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а крв, која протиче кроз хорионску ресицу долази у плаценту путем две пупчане артерије, које се након уласка у хорионску плочу вишеструко гранај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 из хорионских ресица се враћа у фетус преко пупчаних ве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о-плацентарна мембрана обезбеђује размену материја између крви мајке и фетуса и садрж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ндотел капилара фет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ој цитотрофобласта и мезенхимске ћелије фет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ој синцициотрофобласта који је окренут ка базену мајчине крв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Транспорт материја кроз постељ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560" y="980640"/>
            <a:ext cx="8569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 се комбинацијом активних и пасивних механизама транспор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 и угљен-диоксид се транспортују простом дифузиј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за се у фетални крвоток транспортује механизмом олакшане дифузиј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и хемоглоби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већи афинитет за кисеоник од хемоглобина одраслих, тако да при вредности парцијалног притиска кисеоника од 30 ммХг, Колики је По2, у пупчаној вени, остварује се засићење хемоглобина од 80-9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 се углавном транспортују механизмом секундарног активног транспор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 молекуле попут липопротеина мале густине (ЛДЛ), антитела и друге пептиде (трансферин) преузимају ћелије синцициотрофобласта путем рецепторски-посредоване ендоцитоз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транспорта се знатно повећава у последњим недељама трудноће, одражавајући убрзан раст фетуса у том период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ски систем новорођенчета састоји се од ИгГ мај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лацентарни пепти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5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и хорионски гонадотропин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ити жуто тело од дегенерације и обезбеђује континуирано лучење прогестерона ради подршке и одржавања ране трудноћ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ца преузима функцију лучења прогестерона око 8-9 недеље трудноћ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тога концетрација хЦГ у плазми се снижава, али и даље остаје значајна за одржавање лучења прогестерона из ћелија синцициотрофоблас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арна секреција хЦГ је под паракрином контролом локално произведеног ГнР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и хорионски соматотропин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хумани плацентарни лактоге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 сличан хормону раста и пролактин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 искоришћавање гликозе код мајке и смањује мајчин одговор на инсулин, чиме се штеди гликоза за потребе фету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иселине и кетонска тела су важни енергетски извори за плод и постељицу, а хЦС стимулише стварање тих супстр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рају трудноће стимулише развој млечних жлез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варање стероидних хормона у утеро-плацентарно-феталној јединици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трудноће нивои естрогена и прогестерона у крви мајке много су виши него у било којој фази нормалног менструалног цикл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и нивои стероидних хормона су неопходни за одржавање трудноћ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естерон је у утерусу неопходан да би одржао децидуу и релаксирао глатки мишић утеруса са циљем спречавања избацивања пло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девете недеље трудноће већина стероида у крви мајке пореклом је из постељиц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у синтезе стероидних хормона постељици помажу и мајка и фетус у смислу обезбеђивања потребних супстрата и ензима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о-плацентарно-фетална једин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варање стероидних хормона у утеро-плацентарно-феталној јединици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ДЛ холестерол пореклом од мајк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 стероидогенезу у плаценти (плаценти недостају ензими који су неопходни за синтезу холестерола из ацетата; када је снабдевана довољном количином холестерола, плацента може да синтетише прогестерон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и недостају ензими потребни за синтезу естрогена, али она садржи ензим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аз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ја је активност веома висока и чијим деловањем се андрогени претварају у естроге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бубрежне жлезде фетуса снабдевају плаценту слабим андрогеним хормонима који се у плаценти претварају у естрогене хормон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дбубрежним жлездама се синтетише дехидроепиандростерон-сулфат 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EA-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а његов већи део се у јетри фетуса претвара у 16-хидрокси-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EA-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3"/>
          <p:cNvSpPr/>
          <p:nvPr/>
        </p:nvSpPr>
        <p:spPr>
          <a:xfrm>
            <a:off x="5572080" y="357120"/>
            <a:ext cx="2852640" cy="292896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Не учимо за школу већ за живот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Црпе воду решетом ко хоће да учи без књиг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варање стероидних хормона у утеро-плацентарно-феталној јединици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ол (Е3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синтетише у плаценти из 16-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EA-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т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нормалног менструалног циклуса естриол не представља посебно важну врсту естрогена, али се у трудноћи он сматра главним естрогеним хормо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ол има слаб естрогени ефекат у већини мајчиних органа, али појачава утеро-плацентарни проток кр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етусу се не синтетишу ни прогестерон нити естрогени, чиме се избегава изложеност фетуса високим концетрацијама ових хорм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а фетус синтетише велике количине слабих андрогена, до маскулинизације женског фетуса не долази, је плацента делује као велики одвод за феталне андроге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римена естрогена код менопаузалних ж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920" y="1916280"/>
            <a:ext cx="84470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ублаже неке од тегоба постменопаузалног перио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е остеопороз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е поједине манифестације старењ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енопауз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 дефицита естрог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 измењеног метаболизма естрог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минантна форма постаје естрон (настао екстрагландуларном конверзијом прехормона, а не естрадиол који секретује јајн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Терапија естрогенима у менопау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а супституција естрадиола једним или другим аналогом естроге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Естрогени доступни за супституциону терапи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њуговани естроге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е за естроген (диетилстилбестро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и естрогени (етинил естрадиол или дерива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изовани естради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е креме с естроге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лни фластери с естроге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елективни модулатори естрогених рецеп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оксиф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огено дејство на кост и КВ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естрогени ефекат на дојку и утеру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е се за ЕР и изазива промене конформације у домену рецептора везаном за транскрипциј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ју ефекте на валунг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Терапијски режими који са собом носе мали ризик од појаве компликација обухвата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2421000"/>
            <a:ext cx="8785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у терапију естрогенима у најнижој ефективној дози током 25 дана у месецу или континуирану примену сваког дана у месец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оген уз додатак прогестерона последњих 10 до 14 дана терапије естрогени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у свакодневну примену нискодозних препарата прогестаген + естроге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дневно селективне модулаторе 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ни позитивни ефекти терапије естроген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ажавање вазомоторне нестабилности (таласи врући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ажавање атрофије урогениталног епи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ажаванје атрофије к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отенцијалне компликац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 ендометриј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 дој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емболијска бол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 настанка калкулозе жучне ке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ционалан приступ примени естрогена код менопаузалних же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198900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дуготрајно примењују естрогени, треба давати минималну ефективну дозу (0,625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њугованог естрогена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s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1,0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изованог естрадиола или трансдермално 0,05-1,0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астерима који се мењају једном или два пута недељно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жена с интактним утерусом неки клиничари примењују само естроген током првих 15 дана, а затим естроген и прогестерон до краја месец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и терапијски режим је континуирана примена естрогена уз континуирано мале дозе прогестер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4723920"/>
            <a:ext cx="64803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Физиологија женског репродуктивног система </a:t>
            </a: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893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ционалан приступ примени естрогена код менопаузалних же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8920" y="213336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а супституциона терапија је рутински индикована код жена с превременом менопаузом (хируршком или спонтан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естрогенима је такође рутински индикована код жена са веома израженим валунзима или симптомима атрофије урогениталног епите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аси врућине ретко перзистирају дуже од 7 година, тако да је терапија дата с овом наменом временски огранич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ционалан приступ примени естрогена код менопаузалних же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2133360"/>
            <a:ext cx="86421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жена којима је урађена хистеректомија потенцијална корист  од терапије превазилази ризик, тако да се препоручује циклична или континуирана примена естрогена без прогестеро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естрогене треба рутински уводити код свих жена са интактним утерусом и даље је нерешено питање, али аутори препоручују терапију ако нема контариндикација ради ублажавања остеопорозе и смањења ризика за настанак кардиоваскуларних обоље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ционалан приступ примени естрогена код менопаузалних же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оксифен таблете дају се у дози од 6о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, када је циљ превенција губитка коштане масе без додатног ризика од настанка естроген-зависног карцинома дој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а жена на терапији естрогенима мора бити рутински праћена једном годиш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иказ пацијен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ођа К.Х., стара 42 године, непушач, од пре 6 месеци нема менструациона крвављења. Последња два месеца више пута у току дана добија нападе врућине, када се лице и врат прелију црвенилом, а потом пацијенткиња презноји. Када напад врућине прође, јављају се осећај хладноће и дрхтавица. Такође, пацијенткиња се жали на губитак концентрације и памћења. Пацијенткиња више година води живот са мало физичких актив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уноси довољно млека ни млечних производа. У породичној анамнези постоји податак да је тетка пацијенткиње оперисана због карцинома дој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68360" y="169992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утврдити да се пацијенткиња налази у менопауз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менопауза заиста потврди, да ли пацијенткиња треба да надокнађује полне хормон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хормонски препарат за надокнаду треба изабрати код ове пацијенткињ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треба урадити пре увођења препарат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 репродуктивни 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3640" y="1699920"/>
            <a:ext cx="8064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њи репродуктив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о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иц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њи репродуктив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л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ц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1484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не полне женске жлезде (гонад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о одвијања гаметогенезе (оогенез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извор полних стероидних хормо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ју једну јајну ћелију (ооцит) у репродуктивни тракт (једном месечно?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олошки изглед јајника се разликује зависно од периода оваријалног циклу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ар растућих фоликула се могу виде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Јајне ћелије у различитим фазама развој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Жуто тело (цорпус лутеум) – привремена ендокрина жлез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Jajo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ују јајну ћелију и сперматозоиде до места њиховог спајања (фертилизациј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ују зигот до места његове имплантације у материц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јајоводу се разликују четири де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мбриј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столики наставци, који прихватају јајну ћелију након што се она ослободи из јајника у току овулације (трепљасти епител, облаже лумен јајовода и покреће јајну ћелију дуж јајовода према материц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оплодње јајне ћелије (фертилизација) –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ул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му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маже да се ембрион задржи у јајоводу 2-3 дана (током тог периода сазревање ендометријум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урални де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есто уласка јајовода у материчну шупљину (рог материц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50920" y="1125360"/>
            <a:ext cx="8642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ишићни орган крушколиког изглед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ја – да подржи раст фетуса за време трудноћ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томска грађа материце обухвата три дел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а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fund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рлић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атериц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ра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ервик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ербикални кан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ервикална слу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време овулације, под утицајем високе концетрације естрогена и ниске концетрације прогестерона, водњикава и ретка, што омогућава пролазак сперматозоида – “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пратизација” цервикалне слузи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каснијим фазама менструалног циклуса високе концетрације прогестерона подстичу лучење гушће слузи која онемогућава пролазак сперматозоид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телни слој материц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чни ендометријални циклус има три фаз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феративна фаз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ва половина циклуса, пре овулације, под утицајем високих концетрација естрогена задебљање ендометријума, раст енсометријалних жлезда, појава спиралних артери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реторна фаз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руга половина циклуса, доминантан утицај прогестерона, ендометријалне жлезде припремају ендометријум за имплантацију ембрио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струална фаз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не дође до имплантације ембриона, ниво прогестерона опада, месечни циклус се ближи крају, спазам спиралних артерија материце (некроза ткива, слој ендометријума се одлубљује, менструално крварење (мензис) које траје 4-5 дан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метрију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6-09-04T12:10:59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